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C9113-3425-4875-B1AF-2205FA165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96159-7B75-47D6-85C3-4D062AF1C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9251C-215F-4023-9E73-6A0838457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7A64F-A8EF-47ED-9C28-0436482F5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A1212-AB70-4393-9975-A38D0DA06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87A9F-4AE0-4E6C-AF90-F6B31C351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3C79F-A378-433D-8BCA-B8CAC1F3E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29457-87BC-444B-9E69-FD273BC96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68850-F531-4E9A-A24E-AFD17DF5F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13A89-FBF4-4CBA-AA91-77163F304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9BDA1-05B5-47D9-8BD2-840BD0739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8016E-5270-446D-ADA2-B9F35C023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AAD86-CAE7-4EF2-9D14-66C8ED833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31E93-7982-4640-B634-047CA95A8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3B31E-C0A6-452B-A178-D9932B8D6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8C7C2-4F57-47EE-8DBB-E3812EEF6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5646D-D112-464B-A06E-5F2F2CB65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DEEE12-998F-40CA-AB3C-5BA171B7A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CAF89-4A23-43C5-931E-71E5C92E9E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D0F57-A75A-4792-B96C-0DD8F681E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91336-6C7F-419D-9A14-2ECB2F024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0309E-A95E-4504-8C16-88E4F39317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4071D-225A-4565-9191-CD64F35FB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92385-123E-4CE0-B92B-FAC88DF7F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15B3F-07E0-480D-A8A9-E5F7C127B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32883-931A-4EF7-8FB4-EDF347611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FF2A0-1290-4A7F-81FB-FEC20157D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0D1AC-7F91-4001-B803-E798AD9C1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EAA070-3242-4F0C-8051-8FF6F5BB71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BA27C5-402E-45B3-9B50-2779D0287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ECD42D-C959-493D-ABBF-8FB0EBDCD9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6D220-34B9-4C39-9E3E-B45E329B7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67017-3BFF-4418-9EA4-ABA4F9396B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57370-61A4-43A6-984F-6D55CC1F8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29790-D23B-43E0-B942-AA4B2F1F7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AC8F1-C095-4D5F-BD9E-7514770AF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67D6A-F6BA-4C80-8C1E-ACBDF003D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90FC5-1A06-4534-8545-97C9A796C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10501-1590-467A-90F6-49055711C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109D4-E554-4460-B092-D554EE6EF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AA35E-63FF-402C-BE73-25618DB192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DC8CCC-9449-418A-9FEB-ECB5E2C8A3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2AA62-42D2-4B77-B48A-B38ED142EA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A053-25DE-49B7-90A3-95B27E2E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2F17C-8C14-463F-842E-99DE9B7C3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D9658-17E3-493E-9E6F-E18AE09C9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5D55E-4AD0-4C13-A59D-360335532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A10F-84C1-4960-84AF-8C55EF0AD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71A4-78B9-48FE-8805-C8CAABDEA71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C201-EA0E-4726-BF64-1FAE722088C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DEB4-FBC6-4320-8DEA-71A13F710C3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75DA-E128-4A71-A421-9E9CB51198D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480" y="-6480"/>
            <a:ext cx="8309160" cy="1901880"/>
          </a:xfrm>
          <a:prstGeom prst="rect">
            <a:avLst/>
          </a:prstGeom>
          <a:ln w="0">
            <a:noFill/>
          </a:ln>
        </p:spPr>
      </p:pic>
      <p:sp>
        <p:nvSpPr>
          <p:cNvPr id="196" name="PlaceHolder 1"/>
          <p:cNvSpPr>
            <a:spLocks noGrp="1"/>
          </p:cNvSpPr>
          <p:nvPr>
            <p:ph type="subTitle"/>
          </p:nvPr>
        </p:nvSpPr>
        <p:spPr>
          <a:xfrm>
            <a:off x="685440" y="495252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iscilla Castillo</a:t>
            </a:r>
            <a:endParaRPr b="0" lang="en-US" sz="2600" spc="-1" strike="noStrike">
              <a:solidFill>
                <a:srgbClr val="ffffff"/>
              </a:solidFill>
              <a:latin typeface="Constantia"/>
            </a:endParaRPr>
          </a:p>
        </p:txBody>
      </p:sp>
      <p:pic>
        <p:nvPicPr>
          <p:cNvPr id="197" name="Picture 7" descr="http://arctic-council.org/imagearchive/caseimage_np016237-171207.jpg"/>
          <p:cNvPicPr/>
          <p:nvPr/>
        </p:nvPicPr>
        <p:blipFill>
          <a:blip r:embed="rId2"/>
          <a:stretch/>
        </p:blipFill>
        <p:spPr>
          <a:xfrm>
            <a:off x="914400" y="2133720"/>
            <a:ext cx="71629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Are Artic ices?</a:t>
            </a:r>
            <a:endParaRPr b="0" lang="en-US" sz="5000" spc="-1" strike="noStrike">
              <a:solidFill>
                <a:srgbClr val="04617b"/>
              </a:solidFill>
              <a:latin typeface="Calibri"/>
            </a:endParaRPr>
          </a:p>
        </p:txBody>
      </p:sp>
      <p:pic>
        <p:nvPicPr>
          <p:cNvPr id="199" name="Content Placeholder 4" descr="artic ice.jpg"/>
          <p:cNvPicPr/>
          <p:nvPr/>
        </p:nvPicPr>
        <p:blipFill>
          <a:blip r:embed="rId1"/>
          <a:stretch/>
        </p:blipFill>
        <p:spPr>
          <a:xfrm>
            <a:off x="457200" y="2733840"/>
            <a:ext cx="4038480" cy="2808000"/>
          </a:xfrm>
          <a:prstGeom prst="rect">
            <a:avLst/>
          </a:prstGeom>
          <a:ln w="0">
            <a:noFill/>
          </a:ln>
        </p:spPr>
      </p:pic>
      <p:sp>
        <p:nvSpPr>
          <p:cNvPr id="200"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rtic Ice is a boulder of ice, in other terms a glaci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majority of the Artic ice is underwa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eping the ice solid, is essential for maintaing a balance in the worlds natural stat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the problem?</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ery September, since the 1980’s, satelite observations have shown that the ice cover have been shrinking at an average of almost 8% a year.</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ing the transition from winter to spring, the ice builds up again, compensating for its loss of ice during the spring season. However, research shows that in the past two years the artic ices  have not been able to accumilate its loss of ice. This issue is due to the warmth of the current and previous wint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What will the effects be?</a:t>
            </a:r>
            <a:endParaRPr b="0" lang="en-US" sz="2600" spc="-1" strike="noStrike">
              <a:solidFill>
                <a:srgbClr val="04617b"/>
              </a:solidFill>
              <a:latin typeface="Calibri"/>
            </a:endParaRPr>
          </a:p>
        </p:txBody>
      </p:sp>
      <p:sp>
        <p:nvSpPr>
          <p:cNvPr id="204" name="PlaceHolder 2"/>
          <p:cNvSpPr>
            <a:spLocks noGrp="1"/>
          </p:cNvSpPr>
          <p:nvPr>
            <p:ph/>
          </p:nvPr>
        </p:nvSpPr>
        <p:spPr>
          <a:xfrm>
            <a:off x="533520" y="1066680"/>
            <a:ext cx="2862000" cy="5639040"/>
          </a:xfrm>
          <a:prstGeom prst="rect">
            <a:avLst/>
          </a:prstGeom>
          <a:noFill/>
          <a:ln w="0">
            <a:noFill/>
          </a:ln>
        </p:spPr>
        <p:txBody>
          <a:bodyPr lIns="18360" rIns="18360" anchor="t">
            <a:normAutofit fontScale="92000"/>
          </a:bodyPr>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May lead to greater coastal erosion. Coastal erosion is the removal of beach or the wearing of land which is caused by tidal currents, drainage, or wave action.</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ea levels rising</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lobal warming</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limate warming will come larger and faster</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reatens the life of arctic animals such as; polar bears, seals and walruses whom depend on the ice for shelter and reproductive success.</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Most of the effects are negative; </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f ice continues to shrink as expected tankers, cruise liners and container ships would be able to go through the ice without icebreakers.</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05" name="Content Placeholder 4" descr="help.bmp"/>
          <p:cNvPicPr/>
          <p:nvPr/>
        </p:nvPicPr>
        <p:blipFill>
          <a:blip r:embed="rId1"/>
          <a:stretch/>
        </p:blipFill>
        <p:spPr>
          <a:xfrm>
            <a:off x="5257800" y="3048120"/>
            <a:ext cx="3400560" cy="3605040"/>
          </a:xfrm>
          <a:prstGeom prst="rect">
            <a:avLst/>
          </a:prstGeom>
          <a:ln w="0">
            <a:noFill/>
          </a:ln>
        </p:spPr>
      </p:pic>
      <p:pic>
        <p:nvPicPr>
          <p:cNvPr id="206" name="Picture 6" descr="http://www.pbs.org/newshour/indepth_coverage/science/poles/slideshow_icebreakers/media/icebreakers_01.jpg"/>
          <p:cNvPicPr/>
          <p:nvPr/>
        </p:nvPicPr>
        <p:blipFill>
          <a:blip r:embed="rId2"/>
          <a:stretch/>
        </p:blipFill>
        <p:spPr>
          <a:xfrm>
            <a:off x="5029200" y="0"/>
            <a:ext cx="3857760" cy="283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effects on the organism life in the arctic region?</a:t>
            </a: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loss of thousands of marine spe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loss of important sources of food for fish and higher sea creatures. Ex; Bivales-scalops,muscles and Arthropods- crab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temperatures warmed creatures in the bottom of the sea would not be able to survive and would be threatened by competition from warmer wa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affects  animals such as seals, polar bears, and walruses whom make their homes on the ic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life-under-the-arctic-ice11 - Life under the Arctic ice"/>
          <p:cNvPicPr/>
          <p:nvPr/>
        </p:nvPicPr>
        <p:blipFill>
          <a:blip r:embed="rId1"/>
          <a:stretch/>
        </p:blipFill>
        <p:spPr>
          <a:xfrm>
            <a:off x="0" y="0"/>
            <a:ext cx="9144000" cy="3075120"/>
          </a:xfrm>
          <a:prstGeom prst="rect">
            <a:avLst/>
          </a:prstGeom>
          <a:ln w="0">
            <a:noFill/>
          </a:ln>
        </p:spPr>
      </p:pic>
      <p:pic>
        <p:nvPicPr>
          <p:cNvPr id="210" name="Picture 4" descr="life-under-the-arctic-ice10 - Life under the Arctic ice"/>
          <p:cNvPicPr/>
          <p:nvPr/>
        </p:nvPicPr>
        <p:blipFill>
          <a:blip r:embed="rId2"/>
          <a:stretch/>
        </p:blipFill>
        <p:spPr>
          <a:xfrm>
            <a:off x="1690560" y="3048120"/>
            <a:ext cx="7453440" cy="3809880"/>
          </a:xfrm>
          <a:prstGeom prst="rect">
            <a:avLst/>
          </a:prstGeom>
          <a:ln w="0">
            <a:noFill/>
          </a:ln>
        </p:spPr>
      </p:pic>
      <p:pic>
        <p:nvPicPr>
          <p:cNvPr id="211" name="Picture 6" descr="http://www.alaska-in-pictures.com/data/media/2/underwater-polar-bear_2925.jpg"/>
          <p:cNvPicPr/>
          <p:nvPr/>
        </p:nvPicPr>
        <p:blipFill>
          <a:blip r:embed="rId3"/>
          <a:stretch/>
        </p:blipFill>
        <p:spPr>
          <a:xfrm>
            <a:off x="0" y="2971800"/>
            <a:ext cx="445788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is the polar bear being affected?</a:t>
            </a:r>
            <a:endParaRPr b="0" lang="en-US" sz="5000" spc="-1" strike="noStrike">
              <a:solidFill>
                <a:srgbClr val="04617b"/>
              </a:solidFill>
              <a:latin typeface="Calibri"/>
            </a:endParaRPr>
          </a:p>
        </p:txBody>
      </p:sp>
      <p:sp>
        <p:nvSpPr>
          <p:cNvPr id="213" name=""/>
          <p:cNvSpPr txBox="1"/>
          <p:nvPr/>
        </p:nvSpPr>
        <p:spPr>
          <a:xfrm>
            <a:off x="304560" y="1371240"/>
            <a:ext cx="8381880" cy="5181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lar bears are dependent on sea ice for their survival</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gnant female polar bears build their dens in areas where thick snow covers the land. With the ice thinning it melts away their living habitat.</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being exposed to starvation due to the fact that they are carnivorous animals and mostly feed on seals, walruses  and whales whom are disappearing with the climate change</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bsence of ice sheets makes polar bears susceptible of drowning</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lead to becoming an endangered species; by far are classified as threatened</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is the ice melting?</a:t>
            </a:r>
            <a:endParaRPr b="0" lang="en-US" sz="5000" spc="-1" strike="noStrike">
              <a:solidFill>
                <a:srgbClr val="04617b"/>
              </a:solidFill>
              <a:latin typeface="Calibri"/>
            </a:endParaRPr>
          </a:p>
        </p:txBody>
      </p:sp>
      <p:sp>
        <p:nvSpPr>
          <p:cNvPr id="215" name=""/>
          <p:cNvSpPr txBox="1"/>
          <p:nvPr/>
        </p:nvSpPr>
        <p:spPr>
          <a:xfrm>
            <a:off x="457200" y="2057040"/>
            <a:ext cx="8229600" cy="4267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ientists  are still debating whether  the disappearing ice is the first clear sign of global warming or part of a natural cyc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 cited </a:t>
            </a:r>
            <a:endParaRPr b="0" lang="en-US" sz="5000" spc="-1" strike="noStrike">
              <a:solidFill>
                <a:srgbClr val="04617b"/>
              </a:solidFill>
              <a:latin typeface="Calibri"/>
            </a:endParaRPr>
          </a:p>
        </p:txBody>
      </p:sp>
      <p:sp>
        <p:nvSpPr>
          <p:cNvPr id="217" name=""/>
          <p:cNvSpPr txBox="1"/>
          <p:nvPr/>
        </p:nvSpPr>
        <p:spPr>
          <a:xfrm>
            <a:off x="0" y="1371600"/>
            <a:ext cx="8686800" cy="495288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rtic climate Change." </a:t>
            </a:r>
            <a:r>
              <a:rPr b="0" lang="en-US" sz="1200" spc="-1" strike="noStrike" u="sng">
                <a:solidFill>
                  <a:srgbClr val="000000"/>
                </a:solidFill>
                <a:uFillTx/>
                <a:latin typeface="Constantia"/>
              </a:rPr>
              <a:t>Green Facts</a:t>
            </a:r>
            <a:r>
              <a:rPr b="0" lang="en-US" sz="1200" spc="-1" strike="noStrike">
                <a:solidFill>
                  <a:srgbClr val="000000"/>
                </a:solidFill>
                <a:latin typeface="Constantia"/>
              </a:rPr>
              <a:t>. 23 Feb. 2009. 1 Mar. 2009.</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potts, Peter N. "Shrinking Arctic Ocean sea ice signals climate change." </a:t>
            </a:r>
            <a:r>
              <a:rPr b="0" lang="en-US" sz="1200" spc="-1" strike="noStrike" u="sng">
                <a:solidFill>
                  <a:srgbClr val="000000"/>
                </a:solidFill>
                <a:uFillTx/>
                <a:latin typeface="Constantia"/>
              </a:rPr>
              <a:t>The Christian science monitor</a:t>
            </a:r>
            <a:r>
              <a:rPr b="0" lang="en-US" sz="1200" spc="-1" strike="noStrike">
                <a:solidFill>
                  <a:srgbClr val="000000"/>
                </a:solidFill>
                <a:latin typeface="Constantia"/>
              </a:rPr>
              <a:t>. 4 Sept. 2008. 28 Feb. 2009.</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thias, Kevin. "Impact Of Melting Glaciers." 30 Sept. 2007. 1 Mar. 2009 &lt;http://www.buzzle.com/articles/impact-of-melting-glaciers.html&gt;.</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rctic Melting Linked to Human Causes, Long-Term Review Finds." </a:t>
            </a:r>
            <a:r>
              <a:rPr b="0" lang="en-US" sz="1200" spc="-1" strike="noStrike" u="sng">
                <a:solidFill>
                  <a:srgbClr val="000000"/>
                </a:solidFill>
                <a:uFillTx/>
                <a:latin typeface="Constantia"/>
              </a:rPr>
              <a:t>National Geographic news</a:t>
            </a:r>
            <a:r>
              <a:rPr b="0" lang="en-US" sz="1200" spc="-1" strike="noStrike">
                <a:solidFill>
                  <a:srgbClr val="000000"/>
                </a:solidFill>
                <a:latin typeface="Constantia"/>
              </a:rPr>
              <a:t>. 30 Mar. 2007. 1 Mar. 2009 &lt;http://news.nationalgeographic.com/news/2007/03/070330-warming-arctic.html&gt;.</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anguly, Poushali. "Polar Bears and Global Warming." 15 Mar. 2008. 1 Mar. 2009 &lt;http://www.buzzle.com/articles/polar-bears-and-global-warming.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00:06:15Z</dcterms:created>
  <dc:creator>pickers</dc:creator>
  <dc:description/>
  <dc:language>en-US</dc:language>
  <cp:lastModifiedBy>pickers</cp:lastModifiedBy>
  <dcterms:modified xsi:type="dcterms:W3CDTF">2009-03-02T03:28:01Z</dcterms:modified>
  <cp:revision>37</cp:revision>
  <dc:subject/>
  <dc:title>Slide 1</dc:title>
</cp:coreProperties>
</file>